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DE6-9BC4-4649-839A-DE75E259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78E-1122-43AA-AD50-F905F36D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FE4-729A-42B0-AEC5-BA238FC8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FDE-17FF-4A2B-812B-8B157B79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1A3-0527-4759-8852-439CABED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E65-92F3-4501-874F-1DD401FC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83D-2934-4F66-8ABE-5C4AB2DE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4FF-E46F-4C1C-A6EC-00B28952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4CF-8DD4-4214-9AB9-D3DCF199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893-051B-4555-9D8B-109B0F93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126-45B9-458D-B60E-72AE96FD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3D7-DF24-4610-93A6-C8C5FE37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A442-1432-4989-B862-F063C81D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Компютърна тексто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556000" y="1365120"/>
            <a:ext cx="3838320" cy="4800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68360" y="1844640"/>
            <a:ext cx="143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Шир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68360" y="2852640"/>
            <a:ext cx="165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68360" y="3860640"/>
            <a:ext cx="143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местване 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877080" y="2492280"/>
            <a:ext cx="1727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Числови ку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716360" y="2349360"/>
            <a:ext cx="1079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2627280" y="2133720"/>
            <a:ext cx="208908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627280" y="2349360"/>
            <a:ext cx="2089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2627280" y="2565360"/>
            <a:ext cx="144000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1908000" y="2133720"/>
            <a:ext cx="719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2124000" y="242100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1908000" y="278100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 flipH="1" flipV="1">
            <a:off x="5795640" y="2565000"/>
            <a:ext cx="1081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Употреба на малки и главни бук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2089080" cy="20476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3635280" y="2205000"/>
            <a:ext cx="4176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ляма буква в началото на изречени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635280" y="2781360"/>
            <a:ext cx="273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букви са м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635280" y="3357720"/>
            <a:ext cx="2592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букви са гол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635280" y="3933720"/>
            <a:ext cx="417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думи започват с главни букви, а останалите са с м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635280" y="4726080"/>
            <a:ext cx="417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думи започват с малки букви, а останалите са с гол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2556000" y="242100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 flipH="1">
            <a:off x="2266560" y="2997360"/>
            <a:ext cx="136836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2340000" y="3573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 flipH="1" flipV="1">
            <a:off x="3059280" y="4149720"/>
            <a:ext cx="57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411280" y="450864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тиране на текст на ниво абза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3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488360" cy="4084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4"/>
          <p:cNvSpPr/>
          <p:nvPr/>
        </p:nvSpPr>
        <p:spPr>
          <a:xfrm>
            <a:off x="2195640" y="3500280"/>
            <a:ext cx="5616360" cy="14414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179280" y="3970440"/>
            <a:ext cx="11527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6"/>
          <p:cNvSpPr/>
          <p:nvPr/>
        </p:nvSpPr>
        <p:spPr>
          <a:xfrm>
            <a:off x="1332000" y="4186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3995640" y="1844640"/>
            <a:ext cx="136836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актеристики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авняване (Alignment) –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разположение на абзаца спрямо наборното поле на л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стъп (Indentation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стоянието от абзаца до лявата и дясната граница на страницата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Отстъп на първи ред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ждуредово разстояние (Line Spasing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зстояние между абзаци (Spasing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2627280" y="2867040"/>
            <a:ext cx="3816360" cy="14716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900000" y="4797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843280" y="4797360"/>
            <a:ext cx="187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редов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003640" y="4797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877080" y="3587760"/>
            <a:ext cx="1800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549360" y="35877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тавяне на бул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39640" y="2190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тавяне на ном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205000"/>
            <a:ext cx="201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стъпи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627280" y="2997360"/>
            <a:ext cx="649440" cy="35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276720" y="2997360"/>
            <a:ext cx="649080" cy="35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2771640" y="3514680"/>
            <a:ext cx="158436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356000" y="3514680"/>
            <a:ext cx="6494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003640" y="3514680"/>
            <a:ext cx="6494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651640" y="3514680"/>
            <a:ext cx="64908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4500720" y="3011400"/>
            <a:ext cx="79200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2124000" y="2492280"/>
            <a:ext cx="158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2"/>
          <p:cNvSpPr/>
          <p:nvPr/>
        </p:nvSpPr>
        <p:spPr>
          <a:xfrm flipV="1">
            <a:off x="2124000" y="322740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2195640" y="3730320"/>
            <a:ext cx="1296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4572000" y="3730320"/>
            <a:ext cx="21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5"/>
          <p:cNvSpPr/>
          <p:nvPr/>
        </p:nvSpPr>
        <p:spPr>
          <a:xfrm flipH="1" flipV="1">
            <a:off x="5508360" y="3803760"/>
            <a:ext cx="142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6"/>
          <p:cNvSpPr/>
          <p:nvPr/>
        </p:nvSpPr>
        <p:spPr>
          <a:xfrm flipH="1">
            <a:off x="6156360" y="37306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7"/>
          <p:cNvSpPr/>
          <p:nvPr/>
        </p:nvSpPr>
        <p:spPr>
          <a:xfrm flipH="1">
            <a:off x="4858920" y="2421000"/>
            <a:ext cx="2017800" cy="66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6804000" y="4654440"/>
            <a:ext cx="21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9"/>
          <p:cNvSpPr/>
          <p:nvPr/>
        </p:nvSpPr>
        <p:spPr>
          <a:xfrm flipH="1" flipV="1">
            <a:off x="6443280" y="43081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6013440" y="4019400"/>
            <a:ext cx="35892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1982520" y="124308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ел Paragraph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от страни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714840" cy="5143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611280" y="200340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11280" y="2708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 отстъ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11280" y="4005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абза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11280" y="5229360"/>
            <a:ext cx="1800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802560" y="4206960"/>
            <a:ext cx="187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редов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6804000" y="2852640"/>
            <a:ext cx="1366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стъп на първи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611280" y="335772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 отстъ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2700360" y="2060640"/>
            <a:ext cx="187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2771640" y="2924280"/>
            <a:ext cx="144000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7"/>
          <p:cNvSpPr/>
          <p:nvPr/>
        </p:nvSpPr>
        <p:spPr>
          <a:xfrm>
            <a:off x="2771640" y="3139920"/>
            <a:ext cx="144000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8"/>
          <p:cNvSpPr/>
          <p:nvPr/>
        </p:nvSpPr>
        <p:spPr>
          <a:xfrm>
            <a:off x="4572000" y="2924280"/>
            <a:ext cx="172872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9"/>
          <p:cNvSpPr/>
          <p:nvPr/>
        </p:nvSpPr>
        <p:spPr>
          <a:xfrm>
            <a:off x="2700360" y="3789360"/>
            <a:ext cx="151128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4572000" y="4005360"/>
            <a:ext cx="172872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2195640" y="220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2195640" y="285264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 flipV="1">
            <a:off x="2195640" y="32846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4"/>
          <p:cNvSpPr/>
          <p:nvPr/>
        </p:nvSpPr>
        <p:spPr>
          <a:xfrm flipV="1">
            <a:off x="2195640" y="4220640"/>
            <a:ext cx="504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5"/>
          <p:cNvSpPr/>
          <p:nvPr/>
        </p:nvSpPr>
        <p:spPr>
          <a:xfrm>
            <a:off x="2843280" y="5084640"/>
            <a:ext cx="3457440" cy="79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6"/>
          <p:cNvSpPr/>
          <p:nvPr/>
        </p:nvSpPr>
        <p:spPr>
          <a:xfrm>
            <a:off x="241128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7"/>
          <p:cNvSpPr/>
          <p:nvPr/>
        </p:nvSpPr>
        <p:spPr>
          <a:xfrm flipH="1">
            <a:off x="630072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8"/>
          <p:cNvSpPr/>
          <p:nvPr/>
        </p:nvSpPr>
        <p:spPr>
          <a:xfrm flipH="1" flipV="1">
            <a:off x="6300720" y="4292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971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яв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f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– текстът е подравнен по лявата граница на текстовото по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971640" y="3429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яс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igh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– текстът е подравнен по дясната граница на текстовото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969840" y="2681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трира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enter) –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кстът е центри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969840" y="4721040"/>
            <a:ext cx="81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устран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ustify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текстът е двустранно подравнен, като между думите се появяват интервали с различна дълж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"/>
          <p:cNvPicPr/>
          <p:nvPr/>
        </p:nvPicPr>
        <p:blipFill>
          <a:blip r:embed="rId1"/>
          <a:stretch/>
        </p:blipFill>
        <p:spPr>
          <a:xfrm>
            <a:off x="250920" y="1682640"/>
            <a:ext cx="647640" cy="522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2"/>
          <a:stretch/>
        </p:blipFill>
        <p:spPr>
          <a:xfrm>
            <a:off x="250920" y="2629080"/>
            <a:ext cx="604800" cy="58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"/>
          <p:cNvPicPr/>
          <p:nvPr/>
        </p:nvPicPr>
        <p:blipFill>
          <a:blip r:embed="rId3"/>
          <a:stretch/>
        </p:blipFill>
        <p:spPr>
          <a:xfrm>
            <a:off x="250920" y="3611520"/>
            <a:ext cx="644400" cy="536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"/>
          <p:cNvPicPr/>
          <p:nvPr/>
        </p:nvPicPr>
        <p:blipFill>
          <a:blip r:embed="rId4"/>
          <a:stretch/>
        </p:blipFill>
        <p:spPr>
          <a:xfrm>
            <a:off x="250920" y="4849920"/>
            <a:ext cx="649080" cy="52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0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5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8464680" cy="2339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Форматиране на отстъ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11280" y="1916280"/>
            <a:ext cx="16556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яв отстъ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867280" y="1927080"/>
            <a:ext cx="20894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сен отстъ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2843280" y="1916280"/>
            <a:ext cx="165744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стъп на първи 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1332000" y="2349360"/>
            <a:ext cx="7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1547640" y="2349360"/>
            <a:ext cx="50328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1979280" y="263700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2556000" y="263700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7380360" y="2349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7093080" y="2349360"/>
            <a:ext cx="1429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40328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205092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781200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730872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2556000" y="3141720"/>
            <a:ext cx="0" cy="129528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0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Разстояние между абзаци и редо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6443640" y="2492280"/>
            <a:ext cx="915840" cy="1388880"/>
            <a:chOff x="6443640" y="2492280"/>
            <a:chExt cx="915840" cy="1388880"/>
          </a:xfrm>
        </p:grpSpPr>
        <p:pic>
          <p:nvPicPr>
            <p:cNvPr id="269" name="Picture 5" descr=""/>
            <p:cNvPicPr/>
            <p:nvPr/>
          </p:nvPicPr>
          <p:blipFill>
            <a:blip r:embed="rId1"/>
            <a:stretch/>
          </p:blipFill>
          <p:spPr>
            <a:xfrm>
              <a:off x="6443640" y="2492280"/>
              <a:ext cx="22680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6" descr=""/>
            <p:cNvPicPr/>
            <p:nvPr/>
          </p:nvPicPr>
          <p:blipFill>
            <a:blip r:embed="rId2"/>
            <a:stretch/>
          </p:blipFill>
          <p:spPr>
            <a:xfrm>
              <a:off x="6454800" y="2690640"/>
              <a:ext cx="904680" cy="11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Picture 9" descr=""/>
          <p:cNvPicPr/>
          <p:nvPr/>
        </p:nvPicPr>
        <p:blipFill>
          <a:blip r:embed="rId3"/>
          <a:stretch/>
        </p:blipFill>
        <p:spPr>
          <a:xfrm>
            <a:off x="1927080" y="2997360"/>
            <a:ext cx="3581640" cy="961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0"/>
          <p:cNvSpPr/>
          <p:nvPr/>
        </p:nvSpPr>
        <p:spPr>
          <a:xfrm>
            <a:off x="971640" y="2276640"/>
            <a:ext cx="21603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и абз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1042920" y="4437000"/>
            <a:ext cx="21607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абз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5219640" y="4724280"/>
            <a:ext cx="216072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ждуредово раз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1908000" y="3213000"/>
            <a:ext cx="151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1908000" y="3429000"/>
            <a:ext cx="151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3780000" y="3213000"/>
            <a:ext cx="1655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V="1">
            <a:off x="1979640" y="3645000"/>
            <a:ext cx="71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2411280" y="2708280"/>
            <a:ext cx="14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 flipV="1">
            <a:off x="5148360" y="3789000"/>
            <a:ext cx="10792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 flipV="1">
            <a:off x="6443640" y="3933720"/>
            <a:ext cx="289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"/>
          <p:cNvPicPr/>
          <p:nvPr/>
        </p:nvPicPr>
        <p:blipFill>
          <a:blip r:embed="rId1"/>
          <a:stretch/>
        </p:blipFill>
        <p:spPr>
          <a:xfrm>
            <a:off x="971640" y="2443320"/>
            <a:ext cx="7129440" cy="223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042920" y="2637000"/>
            <a:ext cx="5761080" cy="287280"/>
          </a:xfrm>
          <a:prstGeom prst="rect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971640" y="2997360"/>
            <a:ext cx="4752720" cy="16556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796000" y="2997360"/>
            <a:ext cx="1008000" cy="1655640"/>
          </a:xfrm>
          <a:prstGeom prst="rect">
            <a:avLst/>
          </a:prstGeom>
          <a:noFill/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877080" y="2997360"/>
            <a:ext cx="1224000" cy="1655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253920" y="1844640"/>
            <a:ext cx="1695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ифров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554480" y="5357880"/>
            <a:ext cx="179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мвол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578920" y="5357880"/>
            <a:ext cx="222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вигацион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523520" y="1846440"/>
            <a:ext cx="225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ункционал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2627280" y="2205000"/>
            <a:ext cx="216000" cy="432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V="1">
            <a:off x="2411280" y="4653000"/>
            <a:ext cx="289080" cy="72072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7164360" y="2205000"/>
            <a:ext cx="287280" cy="792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6300360" y="4653000"/>
            <a:ext cx="142920" cy="7207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Поставяне на номер или бу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1112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Маркират се абзаците, пред които ще се поставят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900000" y="2379600"/>
            <a:ext cx="2924280" cy="3137040"/>
            <a:chOff x="900000" y="2379600"/>
            <a:chExt cx="2924280" cy="3137040"/>
          </a:xfrm>
        </p:grpSpPr>
        <p:pic>
          <p:nvPicPr>
            <p:cNvPr id="285" name="Picture 7" descr=""/>
            <p:cNvPicPr/>
            <p:nvPr/>
          </p:nvPicPr>
          <p:blipFill>
            <a:blip r:embed="rId1"/>
            <a:stretch/>
          </p:blipFill>
          <p:spPr>
            <a:xfrm>
              <a:off x="900000" y="2592000"/>
              <a:ext cx="2924280" cy="29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"/>
            <p:cNvPicPr/>
            <p:nvPr/>
          </p:nvPicPr>
          <p:blipFill>
            <a:blip r:embed="rId2"/>
            <a:stretch/>
          </p:blipFill>
          <p:spPr>
            <a:xfrm>
              <a:off x="900000" y="2379600"/>
              <a:ext cx="36180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Rectangle 9"/>
          <p:cNvSpPr/>
          <p:nvPr/>
        </p:nvSpPr>
        <p:spPr>
          <a:xfrm>
            <a:off x="1405800" y="578952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Бул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2"/>
          <p:cNvGrpSpPr/>
          <p:nvPr/>
        </p:nvGrpSpPr>
        <p:grpSpPr>
          <a:xfrm>
            <a:off x="5508720" y="2389320"/>
            <a:ext cx="2581200" cy="3046320"/>
            <a:chOff x="5508720" y="2389320"/>
            <a:chExt cx="2581200" cy="3046320"/>
          </a:xfrm>
        </p:grpSpPr>
        <p:pic>
          <p:nvPicPr>
            <p:cNvPr id="289" name="Picture 10" descr=""/>
            <p:cNvPicPr/>
            <p:nvPr/>
          </p:nvPicPr>
          <p:blipFill>
            <a:blip r:embed="rId3"/>
            <a:stretch/>
          </p:blipFill>
          <p:spPr>
            <a:xfrm>
              <a:off x="5508720" y="2663640"/>
              <a:ext cx="258120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1" descr=""/>
            <p:cNvPicPr/>
            <p:nvPr/>
          </p:nvPicPr>
          <p:blipFill>
            <a:blip r:embed="rId4"/>
            <a:stretch/>
          </p:blipFill>
          <p:spPr>
            <a:xfrm>
              <a:off x="5508720" y="2389320"/>
              <a:ext cx="361800" cy="24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Rectangle 12"/>
          <p:cNvSpPr/>
          <p:nvPr/>
        </p:nvSpPr>
        <p:spPr>
          <a:xfrm>
            <a:off x="5727960" y="57895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ом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0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оставяне на рам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395280" y="2133720"/>
            <a:ext cx="1762200" cy="3730680"/>
            <a:chOff x="395280" y="2133720"/>
            <a:chExt cx="1762200" cy="3730680"/>
          </a:xfrm>
        </p:grpSpPr>
        <p:pic>
          <p:nvPicPr>
            <p:cNvPr id="294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2349360"/>
              <a:ext cx="1762200" cy="351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2133720"/>
              <a:ext cx="32364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Rectangle 6"/>
          <p:cNvSpPr/>
          <p:nvPr/>
        </p:nvSpPr>
        <p:spPr>
          <a:xfrm>
            <a:off x="209520" y="1063800"/>
            <a:ext cx="253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дащо 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3"/>
          <a:stretch/>
        </p:blipFill>
        <p:spPr>
          <a:xfrm>
            <a:off x="3995640" y="2227320"/>
            <a:ext cx="4537080" cy="3490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"/>
          <p:cNvSpPr/>
          <p:nvPr/>
        </p:nvSpPr>
        <p:spPr>
          <a:xfrm>
            <a:off x="4802040" y="1093680"/>
            <a:ext cx="352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логов проз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 and Sh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2843280" y="4307040"/>
            <a:ext cx="100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д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2843280" y="30830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643280" y="5948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6588000" y="5877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белина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4067280" y="2708280"/>
            <a:ext cx="865080" cy="266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4932360" y="2708280"/>
            <a:ext cx="136836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4932360" y="4076640"/>
            <a:ext cx="136836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4932360" y="4437000"/>
            <a:ext cx="136836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3851280" y="2852280"/>
            <a:ext cx="1512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 flipV="1">
            <a:off x="3851280" y="443664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 flipH="1" flipV="1">
            <a:off x="5363640" y="4220640"/>
            <a:ext cx="7164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5579640" y="4581000"/>
            <a:ext cx="1368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395280" y="5661000"/>
            <a:ext cx="1655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3"/>
          <p:cNvSpPr/>
          <p:nvPr/>
        </p:nvSpPr>
        <p:spPr>
          <a:xfrm rot="19345800">
            <a:off x="2771640" y="537336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мъкване и форматиране на графични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0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б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491120" y="1773360"/>
            <a:ext cx="62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Illustrations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2987640" y="2600280"/>
            <a:ext cx="3168720" cy="1585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6"/>
          <p:cNvSpPr/>
          <p:nvPr/>
        </p:nvSpPr>
        <p:spPr>
          <a:xfrm>
            <a:off x="826920" y="357336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изображение от фай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916360" y="4653000"/>
            <a:ext cx="1873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изображение о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иблиотеката на MS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5364000" y="465300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афична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6948360" y="3573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диагр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 flipV="1">
            <a:off x="2411280" y="364500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 flipV="1">
            <a:off x="3348000" y="378900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 flipH="1" flipV="1">
            <a:off x="5148000" y="364500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 flipH="1" flipV="1">
            <a:off x="6011640" y="3357720"/>
            <a:ext cx="93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мъкване на изображение от фай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2411280" y="1752480"/>
            <a:ext cx="5720040" cy="39751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179280" y="3716280"/>
            <a:ext cx="1944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ясто, където се намира файлъ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1547640" y="6035760"/>
            <a:ext cx="1727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ме на фай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6012000" y="6021360"/>
            <a:ext cx="201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вмъкване на фай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1911240" y="1109520"/>
            <a:ext cx="55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зорец Inser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484360" y="3357720"/>
            <a:ext cx="1656000" cy="143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564000" y="5013360"/>
            <a:ext cx="187164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6084720" y="5300640"/>
            <a:ext cx="1006560" cy="289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 flipV="1">
            <a:off x="2411280" y="5300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212400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 flipH="1" flipV="1">
            <a:off x="6659280" y="55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nodeType="clickEffect" fill="hold">
                      <p:stCondLst>
                        <p:cond delay="0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мъкване на изображение о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3348000" y="1557360"/>
            <a:ext cx="2036880" cy="50133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900000" y="206064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лючова дума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900000" y="3213000"/>
            <a:ext cx="18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ипове файлове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867280" y="2349360"/>
            <a:ext cx="1873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търс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o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5867280" y="3789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мерени резулт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V="1">
            <a:off x="2484360" y="1988640"/>
            <a:ext cx="93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771640" y="2349000"/>
            <a:ext cx="648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 flipH="1" flipV="1">
            <a:off x="5148000" y="2060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 flipH="1">
            <a:off x="50032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ъкване на графична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"/>
          <p:cNvGrpSpPr/>
          <p:nvPr/>
        </p:nvGrpSpPr>
        <p:grpSpPr>
          <a:xfrm>
            <a:off x="1042920" y="1413000"/>
            <a:ext cx="1843200" cy="4814640"/>
            <a:chOff x="1042920" y="1413000"/>
            <a:chExt cx="1843200" cy="4814640"/>
          </a:xfrm>
        </p:grpSpPr>
        <p:pic>
          <p:nvPicPr>
            <p:cNvPr id="350" name="Picture 5" descr=""/>
            <p:cNvPicPr/>
            <p:nvPr/>
          </p:nvPicPr>
          <p:blipFill>
            <a:blip r:embed="rId1"/>
            <a:stretch/>
          </p:blipFill>
          <p:spPr>
            <a:xfrm>
              <a:off x="1042920" y="1915920"/>
              <a:ext cx="1843200" cy="431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6" descr=""/>
            <p:cNvPicPr/>
            <p:nvPr/>
          </p:nvPicPr>
          <p:blipFill>
            <a:blip r:embed="rId2"/>
            <a:stretch/>
          </p:blipFill>
          <p:spPr>
            <a:xfrm>
              <a:off x="1114200" y="1413000"/>
              <a:ext cx="334800" cy="51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2"/>
          <p:cNvGrpSpPr/>
          <p:nvPr/>
        </p:nvGrpSpPr>
        <p:grpSpPr>
          <a:xfrm>
            <a:off x="4211640" y="2185920"/>
            <a:ext cx="4329000" cy="3294000"/>
            <a:chOff x="4211640" y="2185920"/>
            <a:chExt cx="4329000" cy="3294000"/>
          </a:xfrm>
        </p:grpSpPr>
        <p:pic>
          <p:nvPicPr>
            <p:cNvPr id="353" name="Picture 8" descr=""/>
            <p:cNvPicPr/>
            <p:nvPr/>
          </p:nvPicPr>
          <p:blipFill>
            <a:blip r:embed="rId3"/>
            <a:stretch/>
          </p:blipFill>
          <p:spPr>
            <a:xfrm>
              <a:off x="4211640" y="2636640"/>
              <a:ext cx="4329000" cy="28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9" descr=""/>
            <p:cNvPicPr/>
            <p:nvPr/>
          </p:nvPicPr>
          <p:blipFill>
            <a:blip r:embed="rId4"/>
            <a:stretch/>
          </p:blipFill>
          <p:spPr>
            <a:xfrm>
              <a:off x="4211640" y="2185920"/>
              <a:ext cx="352440" cy="45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Rectangle 10"/>
          <p:cNvSpPr/>
          <p:nvPr/>
        </p:nvSpPr>
        <p:spPr>
          <a:xfrm>
            <a:off x="4788000" y="557280"/>
            <a:ext cx="33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nodeType="clickEffect" fill="hold">
                      <p:stCondLst>
                        <p:cond delay="0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мъкване на художествен надп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ършва с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е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утона WordArt от панела Text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In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"/>
          <p:cNvGrpSpPr/>
          <p:nvPr/>
        </p:nvGrpSpPr>
        <p:grpSpPr>
          <a:xfrm>
            <a:off x="1547640" y="2637000"/>
            <a:ext cx="2838600" cy="3881160"/>
            <a:chOff x="1547640" y="2637000"/>
            <a:chExt cx="2838600" cy="3881160"/>
          </a:xfrm>
        </p:grpSpPr>
        <p:pic>
          <p:nvPicPr>
            <p:cNvPr id="359" name="Picture 5" descr=""/>
            <p:cNvPicPr/>
            <p:nvPr/>
          </p:nvPicPr>
          <p:blipFill>
            <a:blip r:embed="rId1"/>
            <a:stretch/>
          </p:blipFill>
          <p:spPr>
            <a:xfrm>
              <a:off x="1547640" y="3213000"/>
              <a:ext cx="2838600" cy="33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" descr=""/>
            <p:cNvPicPr/>
            <p:nvPr/>
          </p:nvPicPr>
          <p:blipFill>
            <a:blip r:embed="rId2"/>
            <a:stretch/>
          </p:blipFill>
          <p:spPr>
            <a:xfrm>
              <a:off x="1547640" y="2637000"/>
              <a:ext cx="504720" cy="63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4816440" y="3151080"/>
            <a:ext cx="3925800" cy="987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4"/>
          <a:stretch/>
        </p:blipFill>
        <p:spPr>
          <a:xfrm>
            <a:off x="4816440" y="4091040"/>
            <a:ext cx="3973680" cy="901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5"/>
          <a:stretch/>
        </p:blipFill>
        <p:spPr>
          <a:xfrm>
            <a:off x="4705200" y="4932360"/>
            <a:ext cx="419436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6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707160" cy="1076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изоб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136320" y="1504800"/>
            <a:ext cx="30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трани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258920" y="2421000"/>
            <a:ext cx="20890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348000" y="2421000"/>
            <a:ext cx="936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284720" y="2421000"/>
            <a:ext cx="23032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6588000" y="2421000"/>
            <a:ext cx="1368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68360" y="3933720"/>
            <a:ext cx="165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яркост и контра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1332000" y="4986360"/>
            <a:ext cx="1655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цв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2700360" y="3933720"/>
            <a:ext cx="1224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ртистични ефе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924360" y="498780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тил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4427640" y="393372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мка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5869080" y="470232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зиция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7740720" y="4941720"/>
            <a:ext cx="1224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1332000" y="256500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 flipV="1">
            <a:off x="2268360" y="2781000"/>
            <a:ext cx="1429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 flipH="1" flipV="1">
            <a:off x="2771280" y="2997000"/>
            <a:ext cx="505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 flipH="1" flipV="1">
            <a:off x="3779640" y="2852280"/>
            <a:ext cx="647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4"/>
          <p:cNvSpPr/>
          <p:nvPr/>
        </p:nvSpPr>
        <p:spPr>
          <a:xfrm flipH="1" flipV="1">
            <a:off x="4140360" y="2637000"/>
            <a:ext cx="86328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5"/>
          <p:cNvSpPr/>
          <p:nvPr/>
        </p:nvSpPr>
        <p:spPr>
          <a:xfrm flipH="1" flipV="1">
            <a:off x="4716360" y="2852280"/>
            <a:ext cx="1727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6"/>
          <p:cNvSpPr/>
          <p:nvPr/>
        </p:nvSpPr>
        <p:spPr>
          <a:xfrm flipH="1" flipV="1">
            <a:off x="7667640" y="2997000"/>
            <a:ext cx="64944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7"/>
          <p:cNvSpPr/>
          <p:nvPr/>
        </p:nvSpPr>
        <p:spPr>
          <a:xfrm>
            <a:off x="6372360" y="3933720"/>
            <a:ext cx="1439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зрязване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8"/>
          <p:cNvSpPr/>
          <p:nvPr/>
        </p:nvSpPr>
        <p:spPr>
          <a:xfrm flipH="1" flipV="1">
            <a:off x="6877080" y="2997000"/>
            <a:ext cx="216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0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алогов прозорец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варя се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тона-стрелк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от пане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страни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Wrapping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променяме мястото на изображението спрям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2556000" y="2235240"/>
            <a:ext cx="4400280" cy="4362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684360" y="2565360"/>
            <a:ext cx="143964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една ли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179280" y="3573360"/>
            <a:ext cx="216072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кст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е разполага окол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7056360" y="2852640"/>
            <a:ext cx="197964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кст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е разполага отдолу и отг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7129440" y="3933720"/>
            <a:ext cx="1546200" cy="66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я 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ърху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250920" y="4508640"/>
            <a:ext cx="212400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я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ърху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468360" y="5445000"/>
            <a:ext cx="1655640" cy="66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равнява изображението спрямо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7164360" y="5373720"/>
            <a:ext cx="194472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дава раз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8"/>
          <p:cNvSpPr/>
          <p:nvPr/>
        </p:nvSpPr>
        <p:spPr>
          <a:xfrm flipV="1">
            <a:off x="2340000" y="357336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9"/>
          <p:cNvSpPr/>
          <p:nvPr/>
        </p:nvSpPr>
        <p:spPr>
          <a:xfrm>
            <a:off x="2124000" y="2781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 flipV="1">
            <a:off x="2411280" y="4076640"/>
            <a:ext cx="50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1"/>
          <p:cNvSpPr/>
          <p:nvPr/>
        </p:nvSpPr>
        <p:spPr>
          <a:xfrm flipV="1">
            <a:off x="2124000" y="4653000"/>
            <a:ext cx="719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2"/>
          <p:cNvSpPr/>
          <p:nvPr/>
        </p:nvSpPr>
        <p:spPr>
          <a:xfrm flipH="1">
            <a:off x="6588000" y="3141720"/>
            <a:ext cx="43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3"/>
          <p:cNvSpPr/>
          <p:nvPr/>
        </p:nvSpPr>
        <p:spPr>
          <a:xfrm flipH="1" flipV="1">
            <a:off x="4211640" y="3933360"/>
            <a:ext cx="28814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4"/>
          <p:cNvSpPr/>
          <p:nvPr/>
        </p:nvSpPr>
        <p:spPr>
          <a:xfrm flipH="1" flipV="1">
            <a:off x="5940360" y="5300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2700360" y="4508640"/>
            <a:ext cx="39592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6"/>
          <p:cNvSpPr/>
          <p:nvPr/>
        </p:nvSpPr>
        <p:spPr>
          <a:xfrm>
            <a:off x="2700360" y="4870440"/>
            <a:ext cx="3959280" cy="64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0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476360" y="1766880"/>
            <a:ext cx="7559640" cy="5010120"/>
            <a:chOff x="1476360" y="1766880"/>
            <a:chExt cx="7559640" cy="5010120"/>
          </a:xfrm>
        </p:grpSpPr>
        <p:pic>
          <p:nvPicPr>
            <p:cNvPr id="58" name="Picture 3" descr=""/>
            <p:cNvPicPr/>
            <p:nvPr/>
          </p:nvPicPr>
          <p:blipFill>
            <a:blip r:embed="rId1"/>
            <a:stretch/>
          </p:blipFill>
          <p:spPr>
            <a:xfrm>
              <a:off x="1476360" y="1766880"/>
              <a:ext cx="755964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4"/>
            <p:cNvSpPr/>
            <p:nvPr/>
          </p:nvSpPr>
          <p:spPr>
            <a:xfrm>
              <a:off x="5003640" y="1844640"/>
              <a:ext cx="1873440" cy="144360"/>
            </a:xfrm>
            <a:prstGeom prst="rect">
              <a:avLst/>
            </a:prstGeom>
            <a:solidFill>
              <a:srgbClr val="c2d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34920" y="1558080"/>
            <a:ext cx="1152360" cy="520920"/>
          </a:xfrm>
          <a:prstGeom prst="wedgeRoundRectCallout">
            <a:avLst>
              <a:gd name="adj1" fmla="val 82351"/>
              <a:gd name="adj2" fmla="val 897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главен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79280" y="2493000"/>
            <a:ext cx="1046160" cy="520920"/>
          </a:xfrm>
          <a:prstGeom prst="wedgeRoundRectCallout">
            <a:avLst>
              <a:gd name="adj1" fmla="val 79407"/>
              <a:gd name="adj2" fmla="val -12720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лавно мен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179280" y="3574080"/>
            <a:ext cx="1513080" cy="520920"/>
          </a:xfrm>
          <a:prstGeom prst="wedgeRoundRectCallout">
            <a:avLst>
              <a:gd name="adj1" fmla="val 82824"/>
              <a:gd name="adj2" fmla="val -204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с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4572000" y="4581360"/>
            <a:ext cx="180036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ботно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179280" y="5446080"/>
            <a:ext cx="1584360" cy="731160"/>
          </a:xfrm>
          <a:prstGeom prst="wedgeRoundRectCallout">
            <a:avLst>
              <a:gd name="adj1" fmla="val 35550"/>
              <a:gd name="adj2" fmla="val 11623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за състояние н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7308720" y="4328280"/>
            <a:ext cx="1150920" cy="311400"/>
          </a:xfrm>
          <a:prstGeom prst="wedgeRoundRectCallout">
            <a:avLst>
              <a:gd name="adj1" fmla="val 87773"/>
              <a:gd name="adj2" fmla="val -237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лъзг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2054160" y="4005360"/>
            <a:ext cx="1797120" cy="64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азмерителни ли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 flipV="1">
            <a:off x="3059280" y="3141360"/>
            <a:ext cx="360360" cy="80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H="1">
            <a:off x="1618920" y="4581360"/>
            <a:ext cx="43164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703440" y="935640"/>
            <a:ext cx="77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/All Programs/Microsoft Office/Microsoft Word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1476360" y="1989000"/>
            <a:ext cx="75614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476360" y="2205000"/>
            <a:ext cx="7561440" cy="722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1474920" y="6526080"/>
            <a:ext cx="7561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7020000" y="5806080"/>
            <a:ext cx="1512720" cy="520920"/>
          </a:xfrm>
          <a:prstGeom prst="wedgeRoundRectCallout">
            <a:avLst>
              <a:gd name="adj1" fmla="val 75263"/>
              <a:gd name="adj2" fmla="val -204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за превърт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1476360" y="1773360"/>
            <a:ext cx="756144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640" y="213012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траница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печатване на текстов док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0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3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975600" y="1742400"/>
            <a:ext cx="738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Page Setup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Pag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3756240" cy="10335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61128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на отстъ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70036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иентация 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71636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на работен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6732720" y="4653000"/>
            <a:ext cx="2195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"/>
          <p:cNvSpPr/>
          <p:nvPr/>
        </p:nvSpPr>
        <p:spPr>
          <a:xfrm flipV="1">
            <a:off x="1403280" y="3573000"/>
            <a:ext cx="1297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2"/>
          <p:cNvSpPr/>
          <p:nvPr/>
        </p:nvSpPr>
        <p:spPr>
          <a:xfrm flipV="1">
            <a:off x="349236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3"/>
          <p:cNvSpPr/>
          <p:nvPr/>
        </p:nvSpPr>
        <p:spPr>
          <a:xfrm flipH="1" flipV="1">
            <a:off x="4284360" y="3500280"/>
            <a:ext cx="11509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4"/>
          <p:cNvSpPr/>
          <p:nvPr/>
        </p:nvSpPr>
        <p:spPr>
          <a:xfrm flipH="1" flipV="1">
            <a:off x="6156000" y="378900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0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алогов прозорец Page Se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68360" y="2205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р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1"/>
          <a:stretch/>
        </p:blipFill>
        <p:spPr>
          <a:xfrm>
            <a:off x="3419640" y="1197000"/>
            <a:ext cx="4484520" cy="544032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8"/>
          <p:cNvSpPr/>
          <p:nvPr/>
        </p:nvSpPr>
        <p:spPr>
          <a:xfrm flipH="1">
            <a:off x="1042200" y="1560600"/>
            <a:ext cx="1514520" cy="430560"/>
          </a:xfrm>
          <a:prstGeom prst="wedgeRoundRectCallout">
            <a:avLst>
              <a:gd name="adj1" fmla="val -117083"/>
              <a:gd name="adj2" fmla="val 50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стъ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2411280" y="2637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8028000" y="1989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л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7956720" y="2492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 flipH="1">
            <a:off x="1042200" y="3429000"/>
            <a:ext cx="1833480" cy="430560"/>
          </a:xfrm>
          <a:prstGeom prst="wedgeRoundRectCallout">
            <a:avLst>
              <a:gd name="adj1" fmla="val -88787"/>
              <a:gd name="adj2" fmla="val -121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3"/>
          <p:cNvSpPr/>
          <p:nvPr/>
        </p:nvSpPr>
        <p:spPr>
          <a:xfrm flipH="1">
            <a:off x="1116000" y="4437000"/>
            <a:ext cx="1441440" cy="759960"/>
          </a:xfrm>
          <a:prstGeom prst="wedgeRoundRectCallout">
            <a:avLst>
              <a:gd name="adj1" fmla="val -151518"/>
              <a:gd name="adj2" fmla="val 55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5364000" y="29242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5364000" y="3500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5580000" y="530064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цял док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5580000" y="58053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ед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8"/>
          <p:cNvSpPr/>
          <p:nvPr/>
        </p:nvSpPr>
        <p:spPr>
          <a:xfrm flipH="1">
            <a:off x="683640" y="5661000"/>
            <a:ext cx="1803240" cy="1089360"/>
          </a:xfrm>
          <a:prstGeom prst="wedgeRoundRectCallout">
            <a:avLst>
              <a:gd name="adj1" fmla="val -114606"/>
              <a:gd name="adj2" fmla="val -6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даване на параме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3492360" y="1773360"/>
            <a:ext cx="4319640" cy="100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0"/>
          <p:cNvSpPr/>
          <p:nvPr/>
        </p:nvSpPr>
        <p:spPr>
          <a:xfrm>
            <a:off x="3492360" y="2781360"/>
            <a:ext cx="17272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3492360" y="4437000"/>
            <a:ext cx="151128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3492360" y="5850000"/>
            <a:ext cx="1871640" cy="747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3"/>
          <p:cNvSpPr/>
          <p:nvPr/>
        </p:nvSpPr>
        <p:spPr>
          <a:xfrm flipV="1">
            <a:off x="3059280" y="2133360"/>
            <a:ext cx="144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4"/>
          <p:cNvSpPr/>
          <p:nvPr/>
        </p:nvSpPr>
        <p:spPr>
          <a:xfrm flipV="1">
            <a:off x="3059280" y="2349360"/>
            <a:ext cx="1441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5"/>
          <p:cNvSpPr/>
          <p:nvPr/>
        </p:nvSpPr>
        <p:spPr>
          <a:xfrm flipH="1" flipV="1">
            <a:off x="7308360" y="213372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6"/>
          <p:cNvSpPr/>
          <p:nvPr/>
        </p:nvSpPr>
        <p:spPr>
          <a:xfrm flipH="1" flipV="1">
            <a:off x="7308720" y="234900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7"/>
          <p:cNvSpPr/>
          <p:nvPr/>
        </p:nvSpPr>
        <p:spPr>
          <a:xfrm flipH="1">
            <a:off x="5076360" y="5516640"/>
            <a:ext cx="647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8"/>
          <p:cNvSpPr/>
          <p:nvPr/>
        </p:nvSpPr>
        <p:spPr>
          <a:xfrm flipH="1">
            <a:off x="5148360" y="6021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4284720" y="3068640"/>
            <a:ext cx="122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0"/>
          <p:cNvSpPr/>
          <p:nvPr/>
        </p:nvSpPr>
        <p:spPr>
          <a:xfrm flipH="1" flipV="1">
            <a:off x="4932360" y="342900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nodeType="clickEffect" fill="hold">
                      <p:stCondLst>
                        <p:cond delay="0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73040" y="1557360"/>
            <a:ext cx="83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Page Background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Pag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1727280" cy="95724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7"/>
          <p:cNvSpPr/>
          <p:nvPr/>
        </p:nvSpPr>
        <p:spPr>
          <a:xfrm>
            <a:off x="250920" y="427824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124000" y="427824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810320" y="242100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адащо мен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0"/>
          <p:cNvSpPr/>
          <p:nvPr/>
        </p:nvSpPr>
        <p:spPr>
          <a:xfrm flipV="1">
            <a:off x="971640" y="3357360"/>
            <a:ext cx="64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1"/>
          <p:cNvSpPr/>
          <p:nvPr/>
        </p:nvSpPr>
        <p:spPr>
          <a:xfrm flipH="1" flipV="1">
            <a:off x="2484000" y="3499920"/>
            <a:ext cx="358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6012000" y="2997360"/>
            <a:ext cx="1657080" cy="2724120"/>
            <a:chOff x="6012000" y="2997360"/>
            <a:chExt cx="1657080" cy="2724120"/>
          </a:xfrm>
        </p:grpSpPr>
        <p:pic>
          <p:nvPicPr>
            <p:cNvPr id="454" name="Picture 12" descr=""/>
            <p:cNvPicPr/>
            <p:nvPr/>
          </p:nvPicPr>
          <p:blipFill>
            <a:blip r:embed="rId2"/>
            <a:stretch/>
          </p:blipFill>
          <p:spPr>
            <a:xfrm>
              <a:off x="6012000" y="3645000"/>
              <a:ext cx="1657080" cy="20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3" descr=""/>
            <p:cNvPicPr/>
            <p:nvPr/>
          </p:nvPicPr>
          <p:blipFill>
            <a:blip r:embed="rId3"/>
            <a:stretch/>
          </p:blipFill>
          <p:spPr>
            <a:xfrm>
              <a:off x="6012000" y="2997360"/>
              <a:ext cx="4474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AutoShape 14"/>
          <p:cNvSpPr/>
          <p:nvPr/>
        </p:nvSpPr>
        <p:spPr>
          <a:xfrm>
            <a:off x="3780000" y="31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nodeType="clickEffect" fill="hold">
                      <p:stCondLst>
                        <p:cond delay="0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Рамка на 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1"/>
          <a:stretch/>
        </p:blipFill>
        <p:spPr>
          <a:xfrm>
            <a:off x="2122560" y="206064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7"/>
          <p:cNvSpPr/>
          <p:nvPr/>
        </p:nvSpPr>
        <p:spPr>
          <a:xfrm>
            <a:off x="250920" y="4005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д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177840" y="2795760"/>
            <a:ext cx="172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50920" y="5229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2843280" y="6078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белина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611280" y="13255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 and Sh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4716360" y="6078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удожествен е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7308720" y="4941720"/>
            <a:ext cx="165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даване на парамет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7308720" y="2932200"/>
            <a:ext cx="1689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(изгле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5"/>
          <p:cNvSpPr/>
          <p:nvPr/>
        </p:nvSpPr>
        <p:spPr>
          <a:xfrm>
            <a:off x="2193840" y="2565360"/>
            <a:ext cx="1008000" cy="295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3203640" y="2565360"/>
            <a:ext cx="15127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3203640" y="4076640"/>
            <a:ext cx="151272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9"/>
          <p:cNvSpPr/>
          <p:nvPr/>
        </p:nvSpPr>
        <p:spPr>
          <a:xfrm>
            <a:off x="3203640" y="4508640"/>
            <a:ext cx="151272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0"/>
          <p:cNvSpPr/>
          <p:nvPr/>
        </p:nvSpPr>
        <p:spPr>
          <a:xfrm>
            <a:off x="3203640" y="5013360"/>
            <a:ext cx="151272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1"/>
          <p:cNvSpPr/>
          <p:nvPr/>
        </p:nvSpPr>
        <p:spPr>
          <a:xfrm>
            <a:off x="4716360" y="2565360"/>
            <a:ext cx="2303640" cy="22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2"/>
          <p:cNvSpPr/>
          <p:nvPr/>
        </p:nvSpPr>
        <p:spPr>
          <a:xfrm>
            <a:off x="4716360" y="4797360"/>
            <a:ext cx="23036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1906560" y="2997360"/>
            <a:ext cx="158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V="1">
            <a:off x="1833480" y="386028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 flipV="1">
            <a:off x="1835280" y="4365720"/>
            <a:ext cx="14414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V="1">
            <a:off x="3780000" y="4653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 flipV="1">
            <a:off x="4355640" y="522900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8"/>
          <p:cNvSpPr/>
          <p:nvPr/>
        </p:nvSpPr>
        <p:spPr>
          <a:xfrm flipH="1" flipV="1">
            <a:off x="6372000" y="5013360"/>
            <a:ext cx="93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9"/>
          <p:cNvSpPr/>
          <p:nvPr/>
        </p:nvSpPr>
        <p:spPr>
          <a:xfrm flipH="1">
            <a:off x="6588000" y="3213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nodeType="clickEffect" fill="hold">
                      <p:stCondLst>
                        <p:cond delay="0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мериране на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1"/>
          <a:stretch/>
        </p:blipFill>
        <p:spPr>
          <a:xfrm>
            <a:off x="468360" y="2760840"/>
            <a:ext cx="1871640" cy="10666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755640" y="1556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Header&amp;Footer от страница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395280" y="436572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омериране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3276720" y="2492280"/>
            <a:ext cx="2016000" cy="2335320"/>
            <a:chOff x="3276720" y="2492280"/>
            <a:chExt cx="2016000" cy="2335320"/>
          </a:xfrm>
        </p:grpSpPr>
        <p:pic>
          <p:nvPicPr>
            <p:cNvPr id="486" name="Picture 8" descr=""/>
            <p:cNvPicPr/>
            <p:nvPr/>
          </p:nvPicPr>
          <p:blipFill>
            <a:blip r:embed="rId2"/>
            <a:stretch/>
          </p:blipFill>
          <p:spPr>
            <a:xfrm>
              <a:off x="3276720" y="3284640"/>
              <a:ext cx="20160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9" descr=""/>
            <p:cNvPicPr/>
            <p:nvPr/>
          </p:nvPicPr>
          <p:blipFill>
            <a:blip r:embed="rId3"/>
            <a:stretch/>
          </p:blipFill>
          <p:spPr>
            <a:xfrm>
              <a:off x="3276720" y="2492280"/>
              <a:ext cx="6080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Line 10"/>
          <p:cNvSpPr/>
          <p:nvPr/>
        </p:nvSpPr>
        <p:spPr>
          <a:xfrm flipV="1">
            <a:off x="1332000" y="3573000"/>
            <a:ext cx="503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2195640" y="5229360"/>
            <a:ext cx="1726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рна част на страниц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140360" y="5229360"/>
            <a:ext cx="158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лна част на страниц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6372360" y="5300640"/>
            <a:ext cx="18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орматиране на ном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4" descr=""/>
          <p:cNvPicPr/>
          <p:nvPr/>
        </p:nvPicPr>
        <p:blipFill>
          <a:blip r:embed="rId4"/>
          <a:stretch/>
        </p:blipFill>
        <p:spPr>
          <a:xfrm>
            <a:off x="6300720" y="2276640"/>
            <a:ext cx="2448000" cy="2628720"/>
          </a:xfrm>
          <a:prstGeom prst="rect">
            <a:avLst/>
          </a:prstGeom>
          <a:ln w="0">
            <a:noFill/>
          </a:ln>
        </p:spPr>
      </p:pic>
      <p:sp>
        <p:nvSpPr>
          <p:cNvPr id="493" name="Line 15"/>
          <p:cNvSpPr/>
          <p:nvPr/>
        </p:nvSpPr>
        <p:spPr>
          <a:xfrm flipV="1">
            <a:off x="2268360" y="3428640"/>
            <a:ext cx="107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6"/>
          <p:cNvSpPr/>
          <p:nvPr/>
        </p:nvSpPr>
        <p:spPr>
          <a:xfrm flipH="1" flipV="1">
            <a:off x="4571640" y="3644640"/>
            <a:ext cx="863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 flipH="1" flipV="1">
            <a:off x="5076720" y="4436640"/>
            <a:ext cx="172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0"/>
          <p:cNvSpPr/>
          <p:nvPr/>
        </p:nvSpPr>
        <p:spPr>
          <a:xfrm>
            <a:off x="5435640" y="3573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20"/>
          <p:cNvSpPr/>
          <p:nvPr/>
        </p:nvSpPr>
        <p:spPr>
          <a:xfrm>
            <a:off x="2484360" y="314172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nodeType="clickEffect" fill="hold">
                      <p:stCondLst>
                        <p:cond delay="0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печатване на доку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111400" y="1413000"/>
            <a:ext cx="4521240" cy="53006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3062160" y="83592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манда File/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7020000" y="1989000"/>
            <a:ext cx="1441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рой к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50920" y="198900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отпечат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7020000" y="3860640"/>
            <a:ext cx="1727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арактеристика н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250920" y="386064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омера на страни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7020000" y="277956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тройки на прин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7020000" y="486900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иентация 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3"/>
          <p:cNvSpPr/>
          <p:nvPr/>
        </p:nvSpPr>
        <p:spPr>
          <a:xfrm>
            <a:off x="250920" y="515628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ормат на работния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4"/>
          <p:cNvSpPr/>
          <p:nvPr/>
        </p:nvSpPr>
        <p:spPr>
          <a:xfrm>
            <a:off x="7020000" y="573264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змер на белите пол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5"/>
          <p:cNvSpPr/>
          <p:nvPr/>
        </p:nvSpPr>
        <p:spPr>
          <a:xfrm flipV="1">
            <a:off x="1692360" y="2131920"/>
            <a:ext cx="20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6"/>
          <p:cNvSpPr/>
          <p:nvPr/>
        </p:nvSpPr>
        <p:spPr>
          <a:xfrm flipH="1">
            <a:off x="5003280" y="21319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7"/>
          <p:cNvSpPr/>
          <p:nvPr/>
        </p:nvSpPr>
        <p:spPr>
          <a:xfrm flipH="1">
            <a:off x="6372000" y="29973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8"/>
          <p:cNvSpPr/>
          <p:nvPr/>
        </p:nvSpPr>
        <p:spPr>
          <a:xfrm>
            <a:off x="1692360" y="414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9"/>
          <p:cNvSpPr/>
          <p:nvPr/>
        </p:nvSpPr>
        <p:spPr>
          <a:xfrm>
            <a:off x="1835280" y="5445000"/>
            <a:ext cx="1873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"/>
          <p:cNvSpPr/>
          <p:nvPr/>
        </p:nvSpPr>
        <p:spPr>
          <a:xfrm flipH="1" flipV="1">
            <a:off x="4500720" y="3932280"/>
            <a:ext cx="25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1"/>
          <p:cNvSpPr/>
          <p:nvPr/>
        </p:nvSpPr>
        <p:spPr>
          <a:xfrm flipH="1">
            <a:off x="4788000" y="5156280"/>
            <a:ext cx="22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5219280" y="6021360"/>
            <a:ext cx="1800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nodeType="clickEffect" fill="hold">
                      <p:stCondLst>
                        <p:cond delay="0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0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ърсене и замяна на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nodeType="clickEffect" fill="hold">
                      <p:stCondLst>
                        <p:cond delay="0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0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ърсене и замяна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1913040" y="1551960"/>
            <a:ext cx="55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Editing от страница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405080" y="2708280"/>
            <a:ext cx="1295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1403280" y="3645000"/>
            <a:ext cx="12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зам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1403280" y="4724280"/>
            <a:ext cx="151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селекти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"/>
          <p:cNvPicPr/>
          <p:nvPr/>
        </p:nvPicPr>
        <p:blipFill>
          <a:blip r:embed="rId1"/>
          <a:stretch/>
        </p:blipFill>
        <p:spPr>
          <a:xfrm>
            <a:off x="3708360" y="3068640"/>
            <a:ext cx="1216080" cy="14493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2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2019240" cy="1185840"/>
          </a:xfrm>
          <a:prstGeom prst="rect">
            <a:avLst/>
          </a:prstGeom>
          <a:ln w="0">
            <a:noFill/>
          </a:ln>
        </p:spPr>
      </p:pic>
      <p:sp>
        <p:nvSpPr>
          <p:cNvPr id="526" name="Line 13"/>
          <p:cNvSpPr/>
          <p:nvPr/>
        </p:nvSpPr>
        <p:spPr>
          <a:xfrm>
            <a:off x="2700360" y="299736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2700360" y="3645000"/>
            <a:ext cx="115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2916360" y="4076640"/>
            <a:ext cx="93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88000" y="472428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ширени настройки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7"/>
          <p:cNvSpPr/>
          <p:nvPr/>
        </p:nvSpPr>
        <p:spPr>
          <a:xfrm flipH="1" flipV="1">
            <a:off x="6372000" y="378900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nodeType="clickEffect" fill="hold">
                      <p:stCondLst>
                        <p:cond delay="0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nodeType="clickEffect" fill="hold">
                      <p:stCondLst>
                        <p:cond delay="indefinite"/>
                      </p:stCondLst>
                      <p:childTnLst>
                        <p:par>
                          <p:cTn id="1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7" descr=""/>
          <p:cNvPicPr/>
          <p:nvPr/>
        </p:nvPicPr>
        <p:blipFill>
          <a:blip r:embed="rId1"/>
          <a:stretch/>
        </p:blipFill>
        <p:spPr>
          <a:xfrm>
            <a:off x="1928880" y="2060640"/>
            <a:ext cx="5286240" cy="4419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ърсе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314000" y="1340640"/>
            <a:ext cx="62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 прозорец Find and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39640" y="2852640"/>
            <a:ext cx="10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7308720" y="4149720"/>
            <a:ext cx="1657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почване на търсе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68360" y="3846600"/>
            <a:ext cx="1150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ока н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7308720" y="5877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ълнител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1619280" y="4149720"/>
            <a:ext cx="1008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 flipV="1">
            <a:off x="1619280" y="2708280"/>
            <a:ext cx="115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4"/>
          <p:cNvSpPr/>
          <p:nvPr/>
        </p:nvSpPr>
        <p:spPr>
          <a:xfrm flipH="1" flipV="1">
            <a:off x="6012000" y="4005360"/>
            <a:ext cx="129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5"/>
          <p:cNvSpPr/>
          <p:nvPr/>
        </p:nvSpPr>
        <p:spPr>
          <a:xfrm>
            <a:off x="2050920" y="4437000"/>
            <a:ext cx="4897440" cy="9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6"/>
          <p:cNvSpPr/>
          <p:nvPr/>
        </p:nvSpPr>
        <p:spPr>
          <a:xfrm flipH="1" flipV="1">
            <a:off x="3924000" y="5229000"/>
            <a:ext cx="33843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-108000" y="458136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лика между малки и големи бук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-108000" y="515772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ърсене на цели ду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1908000" y="450828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1908000" y="4723920"/>
            <a:ext cx="216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24" dur="indefinite" restart="never" nodeType="tmRoot">
          <p:childTnLst>
            <p:seq>
              <p:cTn id="2025" dur="indefinite" nodeType="mainSeq">
                <p:childTnLst>
                  <p:par>
                    <p:cTn id="2026" nodeType="clickEffect" fill="hold">
                      <p:stCondLst>
                        <p:cond delay="0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и елементи на текстов доку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буква, цифра, препинателен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ма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следователност от знаци, между които няма интер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речени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ност от думи и препинателни знаци, завърш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ъс знак за край на изречени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зац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ица от изречения, започ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нов ред и завърш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натискането на клавиша Enter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тра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Раз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яна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482120" y="1268280"/>
            <a:ext cx="62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 прозорец Find and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05320" cy="44006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179280" y="2492280"/>
            <a:ext cx="10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79280" y="3284640"/>
            <a:ext cx="12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естващ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7308720" y="2924280"/>
            <a:ext cx="1657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почване на търсе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179280" y="4869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ълнител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"/>
          <p:cNvSpPr/>
          <p:nvPr/>
        </p:nvSpPr>
        <p:spPr>
          <a:xfrm>
            <a:off x="2050920" y="4437000"/>
            <a:ext cx="4897440" cy="9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179280" y="4076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яна на една д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7093080" y="4076640"/>
            <a:ext cx="19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яна на всички намерени ду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3"/>
          <p:cNvSpPr/>
          <p:nvPr/>
        </p:nvSpPr>
        <p:spPr>
          <a:xfrm>
            <a:off x="1258920" y="2781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4"/>
          <p:cNvSpPr/>
          <p:nvPr/>
        </p:nvSpPr>
        <p:spPr>
          <a:xfrm flipV="1">
            <a:off x="1476360" y="3429000"/>
            <a:ext cx="144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 flipV="1">
            <a:off x="1403280" y="3933720"/>
            <a:ext cx="2521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 flipH="1" flipV="1">
            <a:off x="5003640" y="4005360"/>
            <a:ext cx="2089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H="1">
            <a:off x="5867280" y="3284640"/>
            <a:ext cx="144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1763640" y="501300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0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nodeType="clickEffect" fill="hold">
                      <p:stCondLst>
                        <p:cond delay="indefinite"/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дактира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403848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ркиране на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760" y="3213000"/>
            <a:ext cx="403848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опир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рязв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мъкв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e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771640" y="2276640"/>
            <a:ext cx="3961080" cy="45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1687320" cy="1996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5439960" y="301788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не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цес, който променя външния вид на символ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638520" y="2492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не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556000" y="3208320"/>
            <a:ext cx="3960720" cy="1252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611280" y="3630600"/>
            <a:ext cx="129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 на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34000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5564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164360" y="3630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92436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ов е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508720" y="486900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подложк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627280" y="3357720"/>
            <a:ext cx="1440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4067280" y="3357720"/>
            <a:ext cx="64908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2627280" y="3789360"/>
            <a:ext cx="1224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5940360" y="3789360"/>
            <a:ext cx="50328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5435640" y="3789360"/>
            <a:ext cx="50472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5003640" y="3789360"/>
            <a:ext cx="432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 flipV="1">
            <a:off x="1908000" y="3500280"/>
            <a:ext cx="719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V="1">
            <a:off x="1979640" y="4076280"/>
            <a:ext cx="115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 flipV="1">
            <a:off x="3348000" y="3645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4859280" y="4076280"/>
            <a:ext cx="28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3"/>
          <p:cNvSpPr/>
          <p:nvPr/>
        </p:nvSpPr>
        <p:spPr>
          <a:xfrm flipH="1" flipV="1">
            <a:off x="5724360" y="4076280"/>
            <a:ext cx="719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 flipH="1">
            <a:off x="6443640" y="39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7164360" y="4869000"/>
            <a:ext cx="1800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 flipH="1" flipV="1">
            <a:off x="6516360" y="4437000"/>
            <a:ext cx="1150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6227640" y="4221000"/>
            <a:ext cx="289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арактеристики на знац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рифт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nt) –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изчертаване на знац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ер (Size) –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мерва се в единици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речени пункт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л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 Sty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1762200" cy="196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8265960" y="1700280"/>
            <a:ext cx="409680" cy="2905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5796000" y="4724280"/>
            <a:ext cx="1297080" cy="285840"/>
          </a:xfrm>
          <a:prstGeom prst="rect">
            <a:avLst/>
          </a:prstGeom>
          <a:ln w="0">
            <a:noFill/>
          </a:ln>
        </p:spPr>
      </p:pic>
      <p:sp>
        <p:nvSpPr>
          <p:cNvPr id="114" name="Line 10"/>
          <p:cNvSpPr/>
          <p:nvPr/>
        </p:nvSpPr>
        <p:spPr>
          <a:xfrm flipV="1">
            <a:off x="5292720" y="4941720"/>
            <a:ext cx="719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6443640" y="50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 flipH="1" flipV="1">
            <a:off x="6877080" y="5013360"/>
            <a:ext cx="7905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427640" y="5516640"/>
            <a:ext cx="13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дебелен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919120" y="551664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Наклон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Ital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250040" y="5516640"/>
            <a:ext cx="120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одчер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Under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арактеристики на знац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5040000" cy="42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(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ел Styles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360" y="3284640"/>
            <a:ext cx="3395520" cy="42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Цвя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Colo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058000" cy="80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971640" y="3819600"/>
            <a:ext cx="1901880" cy="2922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4284720" y="3284640"/>
            <a:ext cx="41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фек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Eff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5292720" y="3789360"/>
            <a:ext cx="2417760" cy="2963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728800" y="1341360"/>
            <a:ext cx="3943440" cy="4962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611280" y="161460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 на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11280" y="254952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093080" y="19162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1280" y="34862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7020000" y="2954160"/>
            <a:ext cx="1944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 подчертаващата ли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7020000" y="4178160"/>
            <a:ext cx="1944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подчертаващата ли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11280" y="436572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уп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11280" y="53006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7093080" y="5516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2987640" y="2133720"/>
            <a:ext cx="201600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5003640" y="2133720"/>
            <a:ext cx="79236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5796000" y="2133720"/>
            <a:ext cx="72072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2987640" y="3284640"/>
            <a:ext cx="122400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4211640" y="3284640"/>
            <a:ext cx="10810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5292720" y="3284640"/>
            <a:ext cx="122400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2843280" y="3645000"/>
            <a:ext cx="374472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2843280" y="4869000"/>
            <a:ext cx="374472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3708360" y="5950080"/>
            <a:ext cx="93492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1619280" y="191628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V="1">
            <a:off x="1619280" y="2781360"/>
            <a:ext cx="3529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 flipV="1">
            <a:off x="1619280" y="342864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 flipV="1">
            <a:off x="1619280" y="4221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 flipV="1">
            <a:off x="1619280" y="5229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"/>
          <p:cNvSpPr/>
          <p:nvPr/>
        </p:nvSpPr>
        <p:spPr>
          <a:xfrm flipH="1">
            <a:off x="6300360" y="22050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 flipH="1">
            <a:off x="5148000" y="3213000"/>
            <a:ext cx="1871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 flipH="1" flipV="1">
            <a:off x="6372000" y="3500280"/>
            <a:ext cx="64764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 flipH="1">
            <a:off x="4642920" y="5805360"/>
            <a:ext cx="2449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2:25:41Z</dcterms:created>
  <dc:creator>gis2</dc:creator>
  <dc:description/>
  <dc:language>en-US</dc:language>
  <cp:lastModifiedBy>Людмил К. Бонев</cp:lastModifiedBy>
  <dcterms:modified xsi:type="dcterms:W3CDTF">2024-01-31T09:11:33Z</dcterms:modified>
  <cp:revision>97</cp:revision>
  <dc:subject/>
  <dc:title>Slide 1</dc:title>
</cp:coreProperties>
</file>